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EF7-3CAD-4F9A-956F-B9EC3958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40F-E1E3-43F5-8E9C-F0349A5F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A949F-6CCD-4B71-AB8A-4113D4A5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2ED6C-8AD4-4F02-991E-399C9B4F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97C1F-A7E2-435C-82A6-7687800C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80EE4-D5AD-41F1-8915-4DC487C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0CE86-18B2-469C-A3B3-ADC481B4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D379B-EA87-4749-B067-1C160E0E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02AD0-177A-4C1E-83A2-EA648CB5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4AFEB-AF45-4F55-866C-662BC1A2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39C0E-D6EA-4C9F-BD91-6CCAA463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E37BE-E823-478B-BA03-ADA64BC7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12C-4270-4EDF-87EC-3F308A28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01FAA-204A-405E-BC1C-A938D689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0F5E3-53BC-4CF4-9795-B9CF282A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D5E20-7CD0-4D25-AF9F-0B317D5B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EB6E7-847A-42D8-AB42-2D1DF58A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5A839-3E8F-444A-8E96-9AF0CE4F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DCF6A-CE4D-4B7C-AC9C-5B0B671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6117E-988C-4EE5-9523-9DB53D5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9AC27-D20B-4E28-A6C0-EEEBF174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77415-E11B-48D6-88C9-C04C12F1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D1030-A3E0-417D-A7C2-757880BA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EAC-CB34-4D82-B449-C0D85410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BFCF5-8328-4C2B-9C13-CD4BFD65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4F06C-F2ED-4271-9FCF-4DCAC60D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06D44-B4C7-4868-8926-2D304D88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CD36E-27C3-4FDA-9E61-B6B4C2F6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F0AD9-B780-4DC4-A7B2-6A9CFCBE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01411-3228-4AA4-A55E-BD232C67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6F52F-E2FA-449D-97E1-430F8A49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39EB3-91FB-40FF-B29F-5517BA2D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828EA-1984-45C0-9949-FBB2D91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4F387-83FD-4FD0-B1BC-1642F1A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A43F-2964-4EB0-95B1-065003CF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E4931-C143-4D34-B240-B13C5CEF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28AD4-C9BA-4047-BA4C-466CB48A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5C7B1-FF9B-4393-A9BA-641FD30E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7117F-2C70-4D82-8FAC-79FE906A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62C7C-5624-411B-A099-80AE7657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53E00-258C-4803-B68A-98DFE68B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4576A-4232-488E-9EC8-06341173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49317-282B-4A38-BD3E-8171F93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F9F46-16A3-462E-AAC4-DFF77EFE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DBCF5-8472-452F-99EF-A167A06B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D8DD-F15A-466F-8DA1-F98ECADB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F0D38-CA18-42C0-940A-C8CE60C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86A71-B6F4-427B-ACFC-A251AE9A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72995-E13C-4FE4-AEA8-C516A305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22041-B6C8-4271-8676-776DCF38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E3A4E-C758-4312-9D86-C08ABF92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7E6B-9228-42B3-A744-D561AA69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C3C3-DD80-460F-867D-866738B3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D2B3-10B6-42EC-B8CE-A38ADBB4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3E41-BEB2-406F-94C0-EFE000B9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F2B4-EDA7-4D92-A1EC-DEEC2D19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768-32FA-4B71-97F6-7C79553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8AF5-F92B-4957-A77C-4A8F89F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C2B7-9757-4727-BD08-E609B86B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2D1A-327C-4D33-8CD3-E5A47437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907F-2630-4441-A6DB-3D93FBE2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9EB0-9588-46D9-AE94-919A9842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06AE-7792-472D-A8A0-CAF86849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D145-D7FB-458B-A532-3B5A9F3F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2502-82CE-4B0B-A7B1-7E49C53E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6577-23DF-4914-AE3B-DFF11542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13D8-796F-4FEA-8C7A-A43F1978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254-E0D1-4EF5-90AA-40F87CA2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2B81-F33E-4A4A-9E40-2591CF39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2FA9-6468-4170-97F1-2E001B7E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AFB0-BE43-43AC-96E0-97224EB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F008-295E-49AF-92EA-80E54354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2591-E3AB-47C2-A069-E0279388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5034-5591-4EF2-8DFA-4EF182A6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CF02-B7EE-485F-A33C-605F2E2E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40E8E-0D0D-4F57-8BEB-6768BF28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9D35-1A90-40D8-8AD2-5328D461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96399-263D-451F-BFCD-9F0EDDB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020-C95D-4B9F-9438-C1F49D9A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5D8D-20EF-4C6A-BB55-DC962164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8731-3B11-4A85-B68F-793C52D6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CFCAA-13D8-49E3-BB96-AC4442B0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977F7-9CC1-4A30-8299-0EDDAF5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5721B-4E43-498A-9CAD-FF694E29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B4A5-9F86-4910-BAC9-A1C6552A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AA54-9A6B-4DA2-8668-910F044D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82DE-DA32-4548-A370-D6A7A4CB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FF03-CCD8-4266-BF1E-0BD724BB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5857D-28CB-494E-9969-766089AD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485-8CE1-495C-A0A4-C8B7C0D7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C2BB6-F5F1-4D34-A2F3-3E7549BB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6687C-88C2-4461-B6B8-9B917B91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A8DC-26ED-469B-8BB8-49707FF6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F367-82D4-475F-95DF-E2203DB8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D864-B210-454A-BD3F-EB33BBC7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2EDE7-7D62-4C7E-8C99-6DB6010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1BF6-1245-40AF-BB25-F30E8DC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0EFFF-31F5-4B7F-83B9-3C0C9E3B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E7FE6-3262-47AC-9D55-ACDB3E57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7337F-6CCE-4AFA-B8EB-3AAE21A4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079-A768-4730-8BFD-823FED5D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C3583-4F80-4B8C-97BD-8342DAF2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C4997-6C6D-4BE3-B2A1-281BA998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A4385-A696-451A-9D50-283CBFF7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22F37-66CE-48B1-AD1F-26677700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D9ED0-699C-4126-9BA2-8ACBFB1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FC11A-B4EC-4E17-BAA5-C32E01B3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23863-B420-4DF9-A601-A8312D45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8B0B0-8526-4A35-A61B-D9F8C8F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589D3-BBC2-449D-AE61-CD055692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74B1-E4B9-4F62-B9A6-01C2E57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78F-7A85-4537-8A8D-0DCD6FA7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9194-9CE4-42E2-8F10-0D6D49DF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902D3-A4A8-4CB1-B6E1-C0317B17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DF189-B338-4517-ACFD-2E85B33E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ECAC-2CAF-4E9E-BDE9-B0ECCCFF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FAB02-7961-427B-BB4B-0B50204F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F0EE8-E436-4C07-832F-B94F9445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6A66F-9A44-4018-B94D-7812208F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4C4A5-D125-4010-88F5-4E03DA10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3D13C-33D6-428A-9B44-D87F466C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B3E57-6EF6-467B-B4A5-3EB7F552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E4B-5D3B-4465-B407-539728AC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1C6F3-4D77-4D23-BF54-809349D9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6C1B3-0632-4808-8EF7-154A6A10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4D4B8-E5FE-4C31-8AC9-8B9BE3C8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31626-FD4A-4239-8ABE-7BF6FBB7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9A72-00C0-44B4-8544-D4D9BA23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7EDB-37E3-4351-B612-C8F179E1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F2F47-3C96-4BC3-A654-879E766A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B4DF6-B13D-4508-A9E4-E6FF0839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DCD8C-DFD3-480B-A56E-D34ACBD6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B63D8-711B-4709-8EF4-0D0A45F2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7B8-D829-4972-8EA8-011B233B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0478E-A64C-4BC4-9C94-5EEACF80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CEF5-5443-45C1-A414-2C9EF3BF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DC984-EEB7-4A60-9252-312C1E8B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5A091-1FA7-476A-A63C-C74DBA4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035B1-4716-4081-9E42-F7E3B006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E549B-DCF0-4804-B780-AA0016C7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2C4A6-402E-4691-A74C-64048FA4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34D2E-F14F-4828-BF08-ACAA0795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A806C-517F-40A8-B410-FF87088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8FC3B-49C4-448E-9D4E-219742ED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B69-5DA7-42D4-88D3-845276BC0B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0073-6F7C-49E8-B497-A116D74BFC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2A6D-3F57-4E20-8876-9C6899E3719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8CE7-DAEF-43CB-B21C-678EEB6DEC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D883-E8EE-4703-8128-11C6FE3541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B02F-FC57-42B8-8979-FEB7DF8803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A435-4323-40DE-AB84-F19ACC3ABA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AB8-38B0-4260-BB1A-4303472B46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897F-F71D-4B35-B7AC-FED61DD8EB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9165-6F9D-42B1-88DC-90160FEAE4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87FD-6F34-47C6-B639-91CFC42E36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F8C5-62F6-4ED7-83CF-AAE2C19761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14 Chcem teba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eba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ac mil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rúcnejšej lásky da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ráč m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duše studenej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šenie, radosť vl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ju rozohrej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lásky via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hriešnych radosti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žieval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už len tvojím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dieťať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mi víťaz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voju chválu 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e ťa velebiť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lásky via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rídu starosti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ápenie,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a vždy spokoj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tým, čo s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ieru pevnú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sa utiek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om mnou, Pane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lásky viac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04T14:23:35Z</dcterms:modified>
  <cp:revision>18</cp:revision>
  <dc:subject/>
  <dc:title>Je veľký náš Pán, on slávy je Kráľ Nech do všetkých strán  spev vrúcnych znie chvál.</dc:title>
</cp:coreProperties>
</file>